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032C-CD26-4EA2-97C8-C53CD4C42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C16A-F63F-40B9-811C-09C42F631F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892E-C911-4C6A-8134-3FF248B0B2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3E23-7C46-4D75-88A9-5E0A052F67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1C29-1C4C-407E-94CE-E917788553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0B4E-27B1-433D-AA8F-FCC164F3F9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D4A-2BF6-4CC8-9C7B-DF1E8F12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435-394A-4BC4-B562-7D481C72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424-7D81-4435-B289-43804ED54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020-E39C-4D77-AC4A-9FC64012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33B9-7CF6-4630-931A-75C364CC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F7EC-AAD1-4E19-B9B5-7CB89A46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2CE9-461E-443C-8E43-635D5A92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490B-73B2-4F60-9551-C778A584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A97E-C32B-42FD-B0E0-61421657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0403-4C3F-4FEB-A3F7-8151BEC3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2660-B98D-4D42-ADED-94686AFF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97B-3698-4DBD-A686-66857BD0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3BB2-56D4-42B7-B91A-B4B50474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1932-6D34-4476-BAD6-583770A9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F58D-9C94-4662-A346-26C45D3F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C81D-CB15-4E05-B077-630E0D3C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92A5-30B9-4827-B31C-BF5D0448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7E2-69F9-43F7-AABE-FF245C6B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DF4-22E8-47D0-8397-A98F3EBC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F8A-49FE-46C5-A006-FF839582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DC3-2A61-4D73-9057-24EE4072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461-CBF6-4955-BD7F-FAC1811E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555-A7C6-470D-B8C6-A93D5052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58F-1EE3-4BA0-B337-3F9DE14A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ABB7-4CED-4B95-94CA-CAE64E912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2F3F-3741-411B-8DD3-13C430B09E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Executive Branc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ich Article of the Constitution created the Executive Branc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541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Name the 3 qualifications to be Presiden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819520" y="32004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at is the MAXIMUM amount of years someone can serve as Presid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819520" y="3403440"/>
            <a:ext cx="313668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at position is third in line of succession for the Presidenc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2590920" y="3733920"/>
            <a:ext cx="3154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o is the leader of our Nation’s Armed forc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362320" y="2895480"/>
            <a:ext cx="3759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0-21T12:06:23Z</dcterms:modified>
  <cp:revision>132</cp:revision>
  <dc:subject/>
  <dc:title>D/O: TO EXPLAIN AND IDENTIFY PROBLEMS OF ECONOMICS</dc:title>
</cp:coreProperties>
</file>